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635-C79D-4FBF-97FD-A7029EBF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2A9-1F31-4FCD-A0F7-77AE9E7E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0AC-3045-4645-A378-CBE5BE58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E36-5BD3-4931-A515-E674B352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83FD-9596-4254-BDBD-87FB517F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C669-0002-4C91-843F-69E9627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C347-5833-46DB-8F3F-CC1FA631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931A-7C3D-4733-AE81-59661026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0C38-B95A-4571-8F2E-BCCB0A76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47E3-8BE6-4BAA-89E9-11DB7889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2376-27AC-437C-9206-FC68EB36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E05-34D0-434C-A50A-61E666F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3164-D49A-43BC-8990-53073BE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173E-5B9F-40EC-9848-9FEF1252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F831-21B7-4787-8EB9-677C37FC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8387-627F-4D2A-B8C5-BE0D0010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2A49-74C2-48E6-B105-3587BEF8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AC5-4858-4A71-A407-44CBD76C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ACD-3C2A-4577-958C-DE6A1694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E23-8F40-4546-BACA-B590C8C0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2A5-5699-4BF8-9B4D-F4BBD6CF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A65-2239-4078-B5F1-E0EC5FE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F16-1F57-40E2-8072-03F076C3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137-C27E-4338-BFC1-657551EE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2DEB-BFD5-484F-B5B6-3AD8AB63ED14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3365-5D69-42A0-82FE-ED0B692BC9AE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Squad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Word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Space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Wingdings"/>
                <a:ea typeface="Wingdings"/>
              </a:rPr>
              <a:t>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cluded as part of words, sentences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nd numb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 word includes the space character that follows it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 sentence includes the end-of-sentence punctuation and at least one space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Nonbreaking space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Times New Roman"/>
                <a:ea typeface="Times New Roman"/>
              </a:rPr>
              <a:t>°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prevent 2 words from being divided between 2 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lin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eg. keep “Mr” and “Smith” on the same lin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Can you think of any other examples where this feature is useful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Tab 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Times New Roman"/>
                <a:ea typeface="Times New Roman"/>
              </a:rPr>
              <a:t>→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ncluded in indented tex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Paragraph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212164"/>
                </a:solidFill>
                <a:uFillTx/>
                <a:latin typeface="Times New Roman"/>
                <a:ea typeface="Times New Roman"/>
              </a:rPr>
              <a:t>¶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 paragraph is any amount of text followed by a </a:t>
            </a: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¶ mark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Line break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212164"/>
                </a:solidFill>
                <a:uFillTx/>
                <a:latin typeface="Symbol"/>
                <a:ea typeface="Symbol"/>
              </a:rPr>
              <a:t>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starts a new line within the same paragraph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create a paragraph of short lines such as an address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How Do I Do That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ab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Press Tab ke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pac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Wingdings"/>
                <a:ea typeface="Wingdings"/>
              </a:rPr>
              <a:t>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Times New Roman"/>
              </a:rPr>
              <a:t>Spaceba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onbreaking spac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°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Ctrl+Shift+Spaceba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aragraph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Ent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ine break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Symbol"/>
                <a:ea typeface="Symbol"/>
              </a:rPr>
              <a:t>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Shift+Ent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you will take turns practicing these functions to be sure you understand how they work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Okay iSquaders, you are ready to work on your own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uring the next 30 minutes you will edit and format the document titled “Format Word” which I will give to you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Follow the directions as given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will share at the end of the work tim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If you finish early, open one of your own documents and edit it using the techniques learned toda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are nonprinting characters in a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ord documen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How do I recognize the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How do I hide or show the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en might it be useful to show thes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character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en would you want to hide the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y would you want to use the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212164"/>
                </a:solidFill>
                <a:uFillTx/>
                <a:latin typeface="Arial"/>
              </a:rPr>
              <a:t>Steps: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Save “Format Word” document to students’ computer. Students open document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Turn on Hide/Show function by clicking on ¶ icon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Place insertion point in front of word “Introduction”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Enter once to create new paragraph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Make one paragraph into two by doing the following: (a) place insertion point in front of the word “Duke” that follows the word “Albuquerque”. (b) press Enter once to create a separate paragraph and once again to create a space between papagraphs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Using the line break function (Shift + Enter), create one new paragraph by typing in the following address and phone number: Duke City Gateway, 15 Montgomery Boulevard, Albuquerque, NM 87111 (415-555-6789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Add a new word by following these steps: (a) Move the insertion point to the immediate left of the word “location” (b) Delete it and type “area” (c) 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Add a non breaking space by following these steps: Place insertion point in front of the word “tours”, backspace to remove space character and then press {Ctrl+shift+spacebar}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12164"/>
                </a:solidFill>
                <a:latin typeface="Arial"/>
              </a:rPr>
              <a:t>Save document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o you now know what those “funny” marks repres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have seen how they can help you position your text where you want t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have learned how to show and hide these editing, nonprinting charact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some ways in which you will use this in the classroo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an you explain this lesson to a fellow student and show them how to  use the funct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unny looking characters that appear on your document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they are and what you are going to do with the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talk about i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look at a documen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nprinting characte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asic editing functions – backspace, delete, text wrapping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ame of charac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it Looks Lik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Name of charac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ab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pac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Wingdings"/>
                <a:ea typeface="Wingdings"/>
              </a:rPr>
              <a:t>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onbreaking spac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aragraph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Times New Roman"/>
                <a:ea typeface="Times New Roman"/>
              </a:rPr>
              <a:t>¶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ine break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Symbol"/>
                <a:ea typeface="Symbol"/>
              </a:rPr>
              <a:t>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at are nonprinting character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12600">
            <a:solidFill>
              <a:srgbClr val="21216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ppear on the screen but not on the printed document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Combine and split paragraphs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Space paragraphs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128600">
            <a:off x="152640" y="1065960"/>
            <a:ext cx="19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12164"/>
                </a:solidFill>
                <a:uFillTx/>
                <a:latin typeface="Arial"/>
              </a:rPr>
              <a:t>USES</a:t>
            </a:r>
            <a:endParaRPr b="0" lang="en-US" sz="4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T</cp:lastModifiedBy>
  <dcterms:modified xsi:type="dcterms:W3CDTF">2007-03-13T10:16:58Z</dcterms:modified>
  <cp:revision>3</cp:revision>
  <dc:subject/>
  <dc:title>Workshop Title</dc:title>
</cp:coreProperties>
</file>